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CB01-04E6-4667-B991-5DC6D6A50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0268-3358-487E-BBB3-7109C7E0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601E-AB9D-467F-B127-29E284E94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654E-7F16-4531-BBFA-D7375B0CC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7AA0-2CA1-4AB4-BDE7-3595B7D2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E69E-5C7F-4115-89DA-498C869C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AF57-4CDA-4560-9900-B9F9B1E7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CD89-FE27-45C6-B01B-9B92329E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6477-B601-4881-9E5B-2601E2CF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03FA-2176-4126-AAAE-90F808E5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D715-58E8-4ECA-AF1B-E4C6E821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D5F5-6626-4D0A-ACE0-DB185290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D637-5242-4B2B-9B8E-A934D193EA9A}" type="slidenum">
              <a:rPr b="0" lang="ar-J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83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566640"/>
            <a:ext cx="3429000" cy="33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مجد مريم يتعظ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486400" y="3213000"/>
            <a:ext cx="3429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في المشارق والغرو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828720" y="422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4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4140360" cy="6966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167360" y="422280"/>
            <a:ext cx="4868640" cy="286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لا تخافوا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أن توافو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67360" y="3762360"/>
            <a:ext cx="4868640" cy="286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663300"/>
                </a:solidFill>
                <a:latin typeface="Times New Roman"/>
                <a:cs typeface="Times New Roman (Arabic)"/>
              </a:rPr>
              <a:t>لحِماها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663300"/>
                </a:solidFill>
                <a:latin typeface="Times New Roman"/>
                <a:cs typeface="Times New Roman (Arabic)"/>
              </a:rPr>
              <a:t>طالبي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832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410080" y="566640"/>
            <a:ext cx="3429000" cy="33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مجد مريم يتعظ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86400" y="3213000"/>
            <a:ext cx="3429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في المشارق والغرو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997440" y="0"/>
            <a:ext cx="51829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22280" y="260280"/>
            <a:ext cx="3429000" cy="3957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كرِّموه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عظموه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1000" y="3700440"/>
            <a:ext cx="3429000" cy="36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ملِّكوها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في القلو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97440" y="0"/>
            <a:ext cx="51829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22280" y="260280"/>
            <a:ext cx="3429000" cy="3957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كرِّموه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عظموه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1000" y="3700440"/>
            <a:ext cx="3429000" cy="36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ملِّكوها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في القلو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003640" y="152280"/>
            <a:ext cx="414036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663300"/>
                </a:solidFill>
                <a:latin typeface="Times New Roman (Arabic)"/>
                <a:cs typeface="Times New Roman (Arabic)"/>
              </a:rPr>
              <a:t>قد تلالت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663300"/>
                </a:solidFill>
                <a:latin typeface="Times New Roman (Arabic)"/>
                <a:ea typeface="Times New Roman (Arabic)"/>
              </a:rPr>
              <a:t> وتعالت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3922560"/>
            <a:ext cx="4140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663300"/>
                </a:solidFill>
                <a:latin typeface="Times New Roman (Arabic)"/>
                <a:cs typeface="Times New Roman (Arabic)"/>
              </a:rPr>
              <a:t>ما لنورها غرو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003640" y="611280"/>
            <a:ext cx="4140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663300"/>
                </a:solidFill>
                <a:latin typeface="Times New Roman (Arabic)"/>
                <a:cs typeface="Times New Roman (Arabic)"/>
              </a:rPr>
              <a:t>وهي قالت حين نالت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003640" y="3922560"/>
            <a:ext cx="4140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663300"/>
                </a:solidFill>
                <a:latin typeface="Times New Roman (Arabic)"/>
                <a:cs typeface="Times New Roman (Arabic)"/>
              </a:rPr>
              <a:t>فلتطوبني الشعو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041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9744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64000" y="476280"/>
            <a:ext cx="3429000" cy="4483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قد دعاها واصطفاه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35640" y="3357720"/>
            <a:ext cx="3429000" cy="33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ce0000"/>
                </a:solidFill>
                <a:latin typeface="Times New Roman"/>
                <a:cs typeface="Times New Roman (Arabic)"/>
              </a:rPr>
              <a:t>ربُّ كل العالمي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33520" y="1341360"/>
            <a:ext cx="4448160" cy="5516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14400" y="762120"/>
            <a:ext cx="1219320" cy="110016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0" y="76320"/>
            <a:ext cx="9144000" cy="6675480"/>
            <a:chOff x="0" y="76320"/>
            <a:chExt cx="9144000" cy="6675480"/>
          </a:xfrm>
        </p:grpSpPr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0" y="1905120"/>
              <a:ext cx="1371600" cy="12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685800" y="3048120"/>
              <a:ext cx="1600200" cy="144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5"/>
            <a:stretch/>
          </p:blipFill>
          <p:spPr>
            <a:xfrm>
              <a:off x="152280" y="4824360"/>
              <a:ext cx="2133720" cy="192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6"/>
            <a:stretch/>
          </p:blipFill>
          <p:spPr>
            <a:xfrm>
              <a:off x="76320" y="76320"/>
              <a:ext cx="914400" cy="82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7"/>
            <a:stretch/>
          </p:blipFill>
          <p:spPr>
            <a:xfrm>
              <a:off x="7772400" y="685800"/>
              <a:ext cx="1219320" cy="11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8"/>
            <a:stretch/>
          </p:blipFill>
          <p:spPr>
            <a:xfrm>
              <a:off x="6858000" y="1828800"/>
              <a:ext cx="1371600" cy="12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9"/>
            <a:stretch/>
          </p:blipFill>
          <p:spPr>
            <a:xfrm>
              <a:off x="7543800" y="2971800"/>
              <a:ext cx="1600200" cy="144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10"/>
            <a:stretch/>
          </p:blipFill>
          <p:spPr>
            <a:xfrm>
              <a:off x="6934320" y="4778280"/>
              <a:ext cx="2133360" cy="1927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" name="" descr=""/>
          <p:cNvPicPr/>
          <p:nvPr/>
        </p:nvPicPr>
        <p:blipFill>
          <a:blip r:embed="rId11"/>
          <a:stretch/>
        </p:blipFill>
        <p:spPr>
          <a:xfrm>
            <a:off x="6934320" y="0"/>
            <a:ext cx="914400" cy="825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167360" y="115920"/>
            <a:ext cx="4868640" cy="2288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ووقاها مذ براها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36360" y="836640"/>
            <a:ext cx="5113080" cy="2288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كل محذور يشي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8328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410080" y="566640"/>
            <a:ext cx="3429000" cy="33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مجد مريم يتعظ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3213000"/>
            <a:ext cx="3429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في المشارق والغرو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997440" y="0"/>
            <a:ext cx="518292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22280" y="260280"/>
            <a:ext cx="3429000" cy="3957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كرِّموه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عظموه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1000" y="3700440"/>
            <a:ext cx="3429000" cy="36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ملِّكوها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في القلو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4140360" cy="6966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167360" y="422280"/>
            <a:ext cx="4868640" cy="3957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هي رجاكم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في شقاك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67360" y="3357720"/>
            <a:ext cx="4868640" cy="286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663300"/>
                </a:solidFill>
                <a:latin typeface="Times New Roman"/>
                <a:cs typeface="Times New Roman (Arabic)"/>
              </a:rPr>
              <a:t>فاسمعوا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663300"/>
                </a:solidFill>
                <a:latin typeface="Times New Roman"/>
                <a:cs typeface="Times New Roman (Arabic)"/>
              </a:rPr>
              <a:t>يا مذنبي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8T05:39:47Z</dcterms:created>
  <dc:creator>Sr Lina</dc:creator>
  <dc:description/>
  <dc:language>en-US</dc:language>
  <cp:lastModifiedBy>user</cp:lastModifiedBy>
  <dcterms:modified xsi:type="dcterms:W3CDTF">2005-05-11T09:32:24Z</dcterms:modified>
  <cp:revision>95</cp:revision>
  <dc:subject/>
  <dc:title>PowerPoint Presentation</dc:title>
</cp:coreProperties>
</file>